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11.jpeg" ContentType="image/jpeg"/>
  <Override PartName="/ppt/media/image9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2.gif" ContentType="image/gi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48B-E4A8-4FB8-9FF5-CA7C23AA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0E4-4147-4DAB-B5C6-920F5DDE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836-0FBF-4421-ABFC-1D1C2C6C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3ED-71B1-4564-B03C-0E4A56E8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8050-8B8C-4ADE-99FD-C78DCC7A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F26-1A02-45C9-A55E-ACAD35ED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861-571E-4878-B485-AB1F7329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BB31-2381-4678-A02E-1D448CA3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702-423A-4D86-9A45-1F44C121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CE9-D85C-474E-9277-461CD131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8B49-CE1D-48AA-8FEE-51411F5B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5CE5-EE48-4D00-9555-4720AF1B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29A9-DA98-4B3E-98CC-8A3B9F8115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news.sohu.com/85/08/news209680885.s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sohu.com/86/85/news209678586.s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1640" y="254160"/>
            <a:ext cx="6985080" cy="6603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47640" y="2492280"/>
            <a:ext cx="5832720" cy="1739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Monotype Corsiva"/>
              </a:rPr>
              <a:t>A CITY OF HERO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148428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Times New Roman"/>
              </a:rPr>
              <a:t>UNIT 7</a:t>
            </a:r>
            <a:r>
              <a:rPr b="0" i="1" lang="zh-CN" sz="4000" spc="-1" strike="noStrike">
                <a:solidFill>
                  <a:srgbClr val="ff3300"/>
                </a:solidFill>
                <a:latin typeface="Times New Roman"/>
              </a:rPr>
              <a:t>　</a:t>
            </a:r>
            <a:r>
              <a:rPr b="0" i="1" lang="zh-CN" sz="4000" spc="-1" strike="noStrike">
                <a:solidFill>
                  <a:srgbClr val="ff3300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566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课件制作　　傅国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13892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87280" y="765000"/>
            <a:ext cx="1872000" cy="45972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e or fa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1628640"/>
            <a:ext cx="7740720" cy="3972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ty of St Petersburg was rebuilt by Peter the Gr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rmans attacked St Petersburg a hundred years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rtrait of Peter the Great was destroyed by the Germ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difficult for people to rebuild the old pal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rs and painters used old photographs to help them rebuild the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 Petersburg will never be as beautiful as it was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8520" y="41497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8520" y="3573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270828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2952720" cy="5256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907920"/>
            <a:ext cx="33116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5327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333360"/>
            <a:ext cx="395892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Useful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349360"/>
            <a:ext cx="5618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re is smoke, there is f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re is water, there i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re is a will, there is a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440" y="1219320"/>
            <a:ext cx="53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re there is a river, there is a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907920"/>
            <a:ext cx="18586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4360" y="1268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trong, proud and united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, the people of St. Petersburg are modern heroes of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637000"/>
            <a:ext cx="70581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Angry and afraid, she didn’t give a rep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He went to bed, cold and hung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Full of fear, he returned to his ca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3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5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7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7280" y="476280"/>
            <a:ext cx="69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Monotype Corsiva"/>
              </a:rPr>
              <a:t>Tell </a:t>
            </a:r>
            <a:r>
              <a:rPr b="0" lang="en-US" sz="3200" spc="-1" strike="noStrike">
                <a:solidFill>
                  <a:srgbClr val="ff3300"/>
                </a:solidFill>
                <a:latin typeface="Monotype Corsiva"/>
              </a:rPr>
              <a:t>the text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Monotype Corsiva"/>
              </a:rPr>
              <a:t>again</a:t>
            </a:r>
            <a:r>
              <a:rPr b="0" lang="en-US" sz="3200" spc="-1" strike="noStrike">
                <a:solidFill>
                  <a:srgbClr val="ff3300"/>
                </a:solidFill>
                <a:latin typeface="Monotype Corsiva"/>
              </a:rPr>
              <a:t> using about 100 word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19700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1052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el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xt using about 100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700280"/>
            <a:ext cx="8353440" cy="3781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rank the coffee at one mouthful, and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fi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 pot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ree hours’ terrible fight, the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g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control of the top of the hill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disappearance of SARS, some theatres and restaurants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opened 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ents are asked to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 homework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hink all of us need to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think 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out our attitudes toward the public health after S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5661000"/>
            <a:ext cx="7272360" cy="1556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Monotype Corsiva"/>
              </a:rPr>
              <a:t>Key: refilled/regained/reopened/redo/re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557360"/>
            <a:ext cx="2952720" cy="350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low through during his lifetime out of a fairy tale in history             in ruins                in pieces         come true        under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1557360"/>
            <a:ext cx="3745080" cy="350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n the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ring…back to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ring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ut bac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ith the help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ook out over th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00000" y="981000"/>
            <a:ext cx="2808360" cy="5031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未成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被照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正在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修建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被控制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有待改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re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修理中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,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修缮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受盘问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讲座中的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125360"/>
            <a:ext cx="4535280" cy="44830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v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把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...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放回原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原位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使恢复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原职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代替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取代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by, with);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接替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替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归还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;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赔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【化】置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eplace coal by [with]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用煤气代替煤作燃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eplace borrowed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还借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-the magazines after re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杂志阅后放回原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Can anything replace a mother's love and 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有什么东西能取代母亲的爱和关怀吗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6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9640" y="1125360"/>
            <a:ext cx="4319640" cy="46677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 v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恢复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(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复元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恢复意识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;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 复职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(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复辟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放回原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归还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交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修复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补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];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重建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;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补正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校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sb. to conscious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某人恢复知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sb. to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某人苏醒过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sb. to his old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某人复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the book to the sh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把书放回书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an extinct kind of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制作绝种动物的模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24000" y="404640"/>
            <a:ext cx="4753080" cy="825120"/>
          </a:xfrm>
          <a:prstGeom prst="rect">
            <a:avLst/>
          </a:prstGeom>
          <a:solidFill>
            <a:srgbClr val="afa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 city of her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3284640"/>
            <a:ext cx="2087280" cy="93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3500280"/>
            <a:ext cx="208764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164200">
            <a:off x="1476000" y="4868640"/>
            <a:ext cx="194328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342200">
            <a:off x="758520" y="2179440"/>
            <a:ext cx="1944720" cy="6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2133720"/>
            <a:ext cx="22320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7640" y="36450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27640" y="2421000"/>
            <a:ext cx="23050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179200">
            <a:off x="5508360" y="4869000"/>
            <a:ext cx="29527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4724280"/>
            <a:ext cx="2881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35002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onotype Corsiva"/>
              </a:rPr>
              <a:t>St. Peters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59280" y="162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kind 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781360"/>
            <a:ext cx="287280" cy="360360"/>
          </a:xfrm>
          <a:prstGeom prst="up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2205000"/>
            <a:ext cx="23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rong, proud, un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429264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5373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cultural re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alaces, paintings, stat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299200">
            <a:off x="6588000" y="5516640"/>
            <a:ext cx="16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0205000">
            <a:off x="6081840" y="564624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happened in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140200">
            <a:off x="5569200" y="50382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estroyed by Ger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32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ere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00720" y="3645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the Nev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106600">
            <a:off x="826200" y="5516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happened after the Russian R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103000">
            <a:off x="1475640" y="494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Kept as muse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32000" y="3141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en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35733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ver 300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19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after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00720" y="24922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built the city and restored its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9346400">
            <a:off x="684720" y="1628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when atta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9482600">
            <a:off x="972000" y="220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ever giv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371628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3645000"/>
            <a:ext cx="360360" cy="215640"/>
          </a:xfrm>
          <a:prstGeom prst="leftArrow">
            <a:avLst>
              <a:gd name="adj1" fmla="val 50000"/>
              <a:gd name="adj2" fmla="val 417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978800">
            <a:off x="5866920" y="4365720"/>
            <a:ext cx="432000" cy="215640"/>
          </a:xfrm>
          <a:custGeom>
            <a:avLst/>
            <a:gdLst>
              <a:gd name="textAreaLeft" fmla="*/ 67320 w 432000"/>
              <a:gd name="textAreaRight" fmla="*/ 378000 w 432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151600">
            <a:off x="2771640" y="4292640"/>
            <a:ext cx="287640" cy="360360"/>
          </a:xfrm>
          <a:prstGeom prst="downArrow">
            <a:avLst>
              <a:gd name="adj1" fmla="val 50000"/>
              <a:gd name="adj2" fmla="val 313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722200">
            <a:off x="5435640" y="306828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161200">
            <a:off x="2484000" y="2852640"/>
            <a:ext cx="647640" cy="216000"/>
          </a:xfrm>
          <a:prstGeom prst="leftArrow">
            <a:avLst>
              <a:gd name="adj1" fmla="val 50000"/>
              <a:gd name="adj2" fmla="val 7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1341360"/>
            <a:ext cx="216000" cy="1871640"/>
          </a:xfrm>
          <a:prstGeom prst="upDownArrow">
            <a:avLst>
              <a:gd name="adj1" fmla="val 50000"/>
              <a:gd name="adj2" fmla="val 172498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116240" cy="4968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4248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92360" y="2708280"/>
            <a:ext cx="6119640" cy="18003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afaaf4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3141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mercialScript BT"/>
              </a:rPr>
              <a:t>A City of Her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26920" y="765000"/>
            <a:ext cx="453708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onotype Corsiva"/>
              </a:rPr>
              <a:t>Fill in the blanks according to the 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1557360"/>
            <a:ext cx="7921800" cy="521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ity is built on th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an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Neva Riv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low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rough its center. After the Russia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v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palaces there wer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ke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museums. The city wa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under att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ree months during the Second Word War, but people there didn’t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 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German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estroy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buildings and everywhere you could see paintings and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tat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ie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whole city was i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ui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After the war, Russian people began t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bui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ity. They wanted t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ity back t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if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Now, many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is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ieces have bee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plac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ld portraits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crea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city ha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sto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Dreams ca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700280"/>
            <a:ext cx="865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2133720"/>
            <a:ext cx="1008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2565360"/>
            <a:ext cx="165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565360"/>
            <a:ext cx="720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2997360"/>
            <a:ext cx="79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08360" y="2997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20000" y="3429000"/>
            <a:ext cx="647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740720" y="3429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3860640"/>
            <a:ext cx="1368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2360" y="4292640"/>
            <a:ext cx="107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4292640"/>
            <a:ext cx="792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92360" y="4724280"/>
            <a:ext cx="792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084640"/>
            <a:ext cx="108108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04000" y="5084640"/>
            <a:ext cx="79056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5516640"/>
            <a:ext cx="57636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5516640"/>
            <a:ext cx="1079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92360" y="595008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950080"/>
            <a:ext cx="129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0920" y="6381720"/>
            <a:ext cx="12258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6381720"/>
            <a:ext cx="79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4464000" cy="5700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050920" y="1557360"/>
            <a:ext cx="54007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俄罗斯第二大城市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——圣彼得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3068640"/>
            <a:ext cx="8281800" cy="520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圣彼得堡１９８８年与中国上海市结为友好城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832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68360" y="16286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Monotype Corsiva"/>
              </a:rPr>
              <a:t>WINTER PA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2492280"/>
            <a:ext cx="6767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CommercialScript BT"/>
              </a:rPr>
              <a:t>GOODBY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981000"/>
            <a:ext cx="8353440" cy="471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name of the 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the heroes of the 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difference between “A city of Heroes” and “Heroes of a City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1463760"/>
            <a:ext cx="25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St.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56536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Both Peter the Great and the people of St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414972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“</a:t>
            </a:r>
            <a:r>
              <a:rPr b="0" lang="zh-CN" sz="2800" spc="-1" strike="noStrike">
                <a:solidFill>
                  <a:srgbClr val="009999"/>
                </a:solidFill>
                <a:latin typeface="Monotype Corsiva"/>
              </a:rPr>
              <a:t>A City of Heroes</a:t>
            </a: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” focuses on a city, where there are many heroes; while “</a:t>
            </a:r>
            <a:r>
              <a:rPr b="0" lang="zh-CN" sz="2800" spc="-1" strike="noStrike">
                <a:solidFill>
                  <a:srgbClr val="009999"/>
                </a:solidFill>
                <a:latin typeface="Monotype Corsiva"/>
              </a:rPr>
              <a:t>Heroes of a City</a:t>
            </a: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” focuses on heroes, who live in a city. So the passage tells mainly  about the city of St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7280" y="260280"/>
            <a:ext cx="237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Pre-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836640"/>
            <a:ext cx="5111640" cy="398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uss these questions with your partn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1484280"/>
            <a:ext cx="763452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.Some cities, like Paris and Beijing, are called great cities of the world. In your opinion, what makes a city gre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306864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2852640"/>
            <a:ext cx="7921800" cy="24940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at city has a long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at city is usually the capital of a country and has a    large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at city will produce many great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ity is great if something important once took plac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3.gif (8366 bytes)"/>
          <p:cNvPicPr/>
          <p:nvPr/>
        </p:nvPicPr>
        <p:blipFill>
          <a:blip r:embed="rId1"/>
          <a:stretch/>
        </p:blipFill>
        <p:spPr>
          <a:xfrm>
            <a:off x="6659640" y="0"/>
            <a:ext cx="6858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32000" y="620640"/>
            <a:ext cx="6335640" cy="520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What are your favourite cities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34920" y="1557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1484280"/>
            <a:ext cx="7632720" cy="8254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.What cultural relics are there in the place where you live? How important are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2565360"/>
            <a:ext cx="6913440" cy="28598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ample: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y tell us who our ancestors were and what their life was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y help us better understand who we are and where are f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y show the development of human civi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1779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42920" y="260280"/>
            <a:ext cx="21607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1052640"/>
            <a:ext cx="5400720" cy="94716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Main ideas of each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198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uild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2492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decline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306864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ebuild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3645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esent situation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2205000"/>
            <a:ext cx="73080" cy="1800360"/>
          </a:xfrm>
          <a:custGeom>
            <a:avLst/>
            <a:gdLst>
              <a:gd name="textAreaLeft" fmla="*/ 46800 w 73080"/>
              <a:gd name="textAreaRight" fmla="*/ 73440 w 730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164360" y="1628640"/>
            <a:ext cx="1782720" cy="3038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03280" y="4437000"/>
            <a:ext cx="2376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9640" y="1197000"/>
            <a:ext cx="316728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tyles of the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1413000"/>
            <a:ext cx="863280" cy="288720"/>
          </a:xfrm>
          <a:prstGeom prst="rightArrow">
            <a:avLst>
              <a:gd name="adj1" fmla="val 50000"/>
              <a:gd name="adj2" fmla="val 7475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692280"/>
            <a:ext cx="144720" cy="1726920"/>
          </a:xfrm>
          <a:custGeom>
            <a:avLst/>
            <a:gdLst>
              <a:gd name="textAreaLeft" fmla="*/ 92520 w 144720"/>
              <a:gd name="textAreaRight" fmla="*/ 145080 w 14472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549360"/>
            <a:ext cx="36720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Narra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记叙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Descrip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描写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Exposi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说明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Argumenta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议论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80880" y="1052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9072600">
            <a:off x="2484000" y="1699920"/>
            <a:ext cx="3888000" cy="144360"/>
          </a:xfrm>
          <a:custGeom>
            <a:avLst/>
            <a:gdLst>
              <a:gd name="textAreaLeft" fmla="*/ 607320 w 3888000"/>
              <a:gd name="textAreaRight" fmla="*/ 3402000 w 3888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708280"/>
            <a:ext cx="2953080" cy="520560"/>
          </a:xfrm>
          <a:prstGeom prst="rect">
            <a:avLst/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lues of wri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3789360"/>
            <a:ext cx="208764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aneo BT"/>
              </a:rPr>
              <a:t>Order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3284640"/>
            <a:ext cx="289080" cy="504720"/>
          </a:xfrm>
          <a:prstGeom prst="downArrow">
            <a:avLst>
              <a:gd name="adj1" fmla="val 50000"/>
              <a:gd name="adj2" fmla="val 43649"/>
            </a:avLst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3860640"/>
            <a:ext cx="792000" cy="289080"/>
          </a:xfrm>
          <a:prstGeom prst="rightArrow">
            <a:avLst>
              <a:gd name="adj1" fmla="val 50000"/>
              <a:gd name="adj2" fmla="val 68493"/>
            </a:avLst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781360"/>
            <a:ext cx="289080" cy="25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2708280"/>
            <a:ext cx="421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Building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The 1917 Russian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The battle in 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Rebuilding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St. Petersburg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16000" y="333360"/>
            <a:ext cx="136836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126828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836640"/>
            <a:ext cx="7273800" cy="53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ich river flows through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en did they build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at were the palaces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en did the Germans attack the c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How long did they attack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Did people there give 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76360" y="1268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v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2060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hundred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292428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and beautiful , look like something out of a fairy 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386064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3789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4581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5373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, they never gave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68360" y="220500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60280"/>
            <a:ext cx="74898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y do people think St Petersburg is a great 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y was it so difficult for people to rebuild the old pala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at did people use to help them rebuild the 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y are the people of St Petersburg hero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692280"/>
            <a:ext cx="52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of many important historic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ived the German attack in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wonderful as it once w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2492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ly damaged. Few modern Russian artists knew exactly what it looked like and there were many missing parts and pie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4005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ssian artists used old paintings and photos to rebuild St Petersbu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5300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made something impossible possible. They have successfully rebuilt the palaces without destroying their old beau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8:50:41Z</dcterms:created>
  <dc:creator>abc</dc:creator>
  <dc:description/>
  <dc:language>en-US</dc:language>
  <cp:lastModifiedBy>abc</cp:lastModifiedBy>
  <dcterms:modified xsi:type="dcterms:W3CDTF">2003-11-21T06:08:46Z</dcterms:modified>
  <cp:revision>40</cp:revision>
  <dc:subject/>
  <dc:title>幻灯片 1</dc:title>
</cp:coreProperties>
</file>